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gif" ContentType="image/gi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AF9-7664-4549-ACE8-7F411216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53F-C96F-428C-A210-8962817F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EC78-BAB5-439B-B9F0-52E33480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34A-A028-4FE2-8AF2-737EDE0C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206-8DCB-4C88-BAA0-E91AB761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13E-CC10-46C0-A91D-7C7FEDCB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491-FC37-4CD8-B746-9A275A14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1DD-8B27-472F-A8AF-10BE5815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E0E-C31D-4DBC-B608-8884304D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EF1-A30C-4F04-87C7-914F9A58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1B2-A577-46E6-987C-BBBDADBA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A1F-FD64-4411-A1E4-BCD46C88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E7D8-66F4-47D4-B1CB-FCDAE850E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-in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Word Famil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76720" y="26668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tw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66688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t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j0089468" descr=""/>
          <p:cNvPicPr/>
          <p:nvPr/>
        </p:nvPicPr>
        <p:blipFill>
          <a:blip r:embed="rId1"/>
          <a:stretch/>
        </p:blipFill>
        <p:spPr>
          <a:xfrm>
            <a:off x="2743200" y="4567320"/>
            <a:ext cx="2008080" cy="13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29000" y="26668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g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2666880"/>
            <a:ext cx="1218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g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D05960_" descr=""/>
          <p:cNvPicPr/>
          <p:nvPr/>
        </p:nvPicPr>
        <p:blipFill>
          <a:blip r:embed="rId1"/>
          <a:stretch/>
        </p:blipFill>
        <p:spPr>
          <a:xfrm>
            <a:off x="4267080" y="4114800"/>
            <a:ext cx="2154240" cy="23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274320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f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j0320442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184464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29000" y="27432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281952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HH01065_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15987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29000" y="27432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t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j0112394" descr=""/>
          <p:cNvPicPr/>
          <p:nvPr/>
        </p:nvPicPr>
        <p:blipFill>
          <a:blip r:embed="rId1"/>
          <a:stretch/>
        </p:blipFill>
        <p:spPr>
          <a:xfrm>
            <a:off x="5791320" y="2666880"/>
            <a:ext cx="2806560" cy="35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053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b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j0281792" descr=""/>
          <p:cNvPicPr/>
          <p:nvPr/>
        </p:nvPicPr>
        <p:blipFill>
          <a:blip r:embed="rId1"/>
          <a:stretch/>
        </p:blipFill>
        <p:spPr>
          <a:xfrm>
            <a:off x="3352680" y="4648320"/>
            <a:ext cx="205740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0040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w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j0078737" descr=""/>
          <p:cNvPicPr/>
          <p:nvPr/>
        </p:nvPicPr>
        <p:blipFill>
          <a:blip r:embed="rId1"/>
          <a:stretch/>
        </p:blipFill>
        <p:spPr>
          <a:xfrm>
            <a:off x="3276720" y="4038480"/>
            <a:ext cx="222552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8120" y="2819520"/>
            <a:ext cx="1295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81952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8380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ch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E07004_" descr=""/>
          <p:cNvPicPr/>
          <p:nvPr/>
        </p:nvPicPr>
        <p:blipFill>
          <a:blip r:embed="rId1"/>
          <a:stretch/>
        </p:blipFill>
        <p:spPr>
          <a:xfrm>
            <a:off x="4114800" y="4267080"/>
            <a:ext cx="1612800" cy="1814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90920" y="5715000"/>
            <a:ext cx="220968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429000" y="26668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p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2666880"/>
            <a:ext cx="1218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j0296974" descr=""/>
          <p:cNvPicPr/>
          <p:nvPr/>
        </p:nvPicPr>
        <p:blipFill>
          <a:blip r:embed="rId1"/>
          <a:stretch/>
        </p:blipFill>
        <p:spPr>
          <a:xfrm>
            <a:off x="3048120" y="4343400"/>
            <a:ext cx="11397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76720" y="26668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th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66688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t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j0120995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3106800" cy="561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3:28:54Z</dcterms:created>
  <dc:creator>Wake County Public Schools</dc:creator>
  <dc:description/>
  <dc:language>en-US</dc:language>
  <cp:lastModifiedBy>Wake County Public Schools</cp:lastModifiedBy>
  <dcterms:modified xsi:type="dcterms:W3CDTF">2005-06-14T05:27:17Z</dcterms:modified>
  <cp:revision>12</cp:revision>
  <dc:subject/>
  <dc:title>-ill Word Family</dc:title>
</cp:coreProperties>
</file>